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7014-800A-407B-87DD-46CD85F80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a “find and replace” for each “TopicX” for the topic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each of your answers and questions on the relevant sli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questions currently have a time limit of 30 seconds and this is set on the “time up’s” graphic that pops up on each ‘answer’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F9DC-15E2-460E-8868-EE12189A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41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1A1E-69C9-4F32-BAAF-A4B0271B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41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41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752-8D8C-4FB2-8BD2-755CD6BA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49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49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41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41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41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52AF-05DB-408A-9FFC-64ADF2B6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1E11-5656-4478-86D9-083D2293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7022-E7BC-4C53-9D47-30042EAE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55EB-8B32-4611-90CD-0943F3ED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B7F1-4F05-46EF-AE30-B421279E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6B25-B85A-4625-B8C4-B29298D5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A062-7909-4720-806C-4DF6A28A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541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6941-DC25-4EF3-BF82-307E9D50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CBBF-47A6-445A-8E70-3399E71D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541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C3A4-59B8-4409-847A-7535B16A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541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29F2-B448-44E5-A4E0-93F37F43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541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8C17-CD07-4B7C-B8EB-4212BAC2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41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541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7ED3-6921-44D9-98E9-B7754AD1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449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449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541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541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541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CC8C-CB9D-4485-A86F-14AD6774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5EA5-AB6F-4133-B017-E238AA7D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780-C898-40F5-9EBB-5E6395E0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9AA-F90A-4FAB-94B3-6A7AB03E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FE9C-E6C3-4AF1-A630-841EC25F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41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5E2E-1E24-449D-933A-C301248A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41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EEE-BDA9-4BAB-84DE-932D84E5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41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5ED4-7C9D-41AF-AC39-7235CB64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5F55-2177-486F-B2FD-623F03E68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Jeopardy presentation engineered by Andrew Chu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EB46-2676-4AC7-8C4C-080B3A59D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22.xml"/><Relationship Id="rId4" Type="http://schemas.openxmlformats.org/officeDocument/2006/relationships/slide" Target="slide32.xml"/><Relationship Id="rId5" Type="http://schemas.openxmlformats.org/officeDocument/2006/relationships/slide" Target="slide42.xml"/><Relationship Id="rId6" Type="http://schemas.openxmlformats.org/officeDocument/2006/relationships/slide" Target="slide52.xml"/><Relationship Id="rId7" Type="http://schemas.openxmlformats.org/officeDocument/2006/relationships/slide" Target="slide62.xml"/><Relationship Id="rId8" Type="http://schemas.openxmlformats.org/officeDocument/2006/relationships/slide" Target="slide4.xml"/><Relationship Id="rId9" Type="http://schemas.openxmlformats.org/officeDocument/2006/relationships/slide" Target="slide14.xml"/><Relationship Id="rId10" Type="http://schemas.openxmlformats.org/officeDocument/2006/relationships/slide" Target="slide24.xml"/><Relationship Id="rId11" Type="http://schemas.openxmlformats.org/officeDocument/2006/relationships/slide" Target="slide34.xml"/><Relationship Id="rId12" Type="http://schemas.openxmlformats.org/officeDocument/2006/relationships/slide" Target="slide44.xml"/><Relationship Id="rId13" Type="http://schemas.openxmlformats.org/officeDocument/2006/relationships/slide" Target="slide54.xml"/><Relationship Id="rId14" Type="http://schemas.openxmlformats.org/officeDocument/2006/relationships/slide" Target="slide64.xml"/><Relationship Id="rId15" Type="http://schemas.openxmlformats.org/officeDocument/2006/relationships/slide" Target="slide6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56.xml"/><Relationship Id="rId21" Type="http://schemas.openxmlformats.org/officeDocument/2006/relationships/slide" Target="slide66.xml"/><Relationship Id="rId22" Type="http://schemas.openxmlformats.org/officeDocument/2006/relationships/slide" Target="slide8.xml"/><Relationship Id="rId23" Type="http://schemas.openxmlformats.org/officeDocument/2006/relationships/slide" Target="slide18.xml"/><Relationship Id="rId24" Type="http://schemas.openxmlformats.org/officeDocument/2006/relationships/slide" Target="slide28.xml"/><Relationship Id="rId25" Type="http://schemas.openxmlformats.org/officeDocument/2006/relationships/slide" Target="slide38.xml"/><Relationship Id="rId26" Type="http://schemas.openxmlformats.org/officeDocument/2006/relationships/slide" Target="slide48.xml"/><Relationship Id="rId27" Type="http://schemas.openxmlformats.org/officeDocument/2006/relationships/slide" Target="slide58.xml"/><Relationship Id="rId28" Type="http://schemas.openxmlformats.org/officeDocument/2006/relationships/slide" Target="slide68.xml"/><Relationship Id="rId29" Type="http://schemas.openxmlformats.org/officeDocument/2006/relationships/slide" Target="slide10.xml"/><Relationship Id="rId30" Type="http://schemas.openxmlformats.org/officeDocument/2006/relationships/slide" Target="slide20.xml"/><Relationship Id="rId31" Type="http://schemas.openxmlformats.org/officeDocument/2006/relationships/slide" Target="slide30.xml"/><Relationship Id="rId32" Type="http://schemas.openxmlformats.org/officeDocument/2006/relationships/slide" Target="slide40.xml"/><Relationship Id="rId33" Type="http://schemas.openxmlformats.org/officeDocument/2006/relationships/slide" Target="slide50.xml"/><Relationship Id="rId34" Type="http://schemas.openxmlformats.org/officeDocument/2006/relationships/slide" Target="slide60.xml"/><Relationship Id="rId35" Type="http://schemas.openxmlformats.org/officeDocument/2006/relationships/slide" Target="slide70.xml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15238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15238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2" action="ppaction://hlinksldjump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15238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3" action="ppaction://hlinksldjump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15238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4" action="ppaction://hlinksldjump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15238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5" action="ppaction://hlinksldjump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15238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6" action="ppaction://hlinksldjump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86600" y="15238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7" action="ppaction://hlinksldjump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04920"/>
            <a:ext cx="1143000" cy="121896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18960"/>
              <a:gd name="textAreaBottom" fmla="*/ 1163160 h 1218960"/>
            </a:gdLst>
            <a:ahLst/>
            <a:rect l="textAreaLeft" t="textAreaTop" r="textAreaRight" b="textAreaBottom"/>
            <a:pathLst>
              <a:path w="21600" h="23035">
                <a:moveTo>
                  <a:pt x="3600" y="0"/>
                </a:moveTo>
                <a:arcTo wR="3600" hR="3600" stAng="16200000" swAng="-5400000"/>
                <a:lnTo>
                  <a:pt x="0" y="19435"/>
                </a:lnTo>
                <a:arcTo wR="3600" hR="3600" stAng="10800000" swAng="-5400000"/>
                <a:lnTo>
                  <a:pt x="18000" y="230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71717"/>
              </a:gs>
              <a:gs pos="50000">
                <a:srgbClr val="333333"/>
              </a:gs>
              <a:gs pos="100000">
                <a:srgbClr val="171717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304920"/>
            <a:ext cx="1143000" cy="121896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18960"/>
              <a:gd name="textAreaBottom" fmla="*/ 1163160 h 1218960"/>
            </a:gdLst>
            <a:ahLst/>
            <a:rect l="textAreaLeft" t="textAreaTop" r="textAreaRight" b="textAreaBottom"/>
            <a:pathLst>
              <a:path w="21600" h="23035">
                <a:moveTo>
                  <a:pt x="3600" y="0"/>
                </a:moveTo>
                <a:arcTo wR="3600" hR="3600" stAng="16200000" swAng="-5400000"/>
                <a:lnTo>
                  <a:pt x="0" y="19435"/>
                </a:lnTo>
                <a:arcTo wR="3600" hR="3600" stAng="10800000" swAng="-5400000"/>
                <a:lnTo>
                  <a:pt x="18000" y="230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71717"/>
              </a:gs>
              <a:gs pos="50000">
                <a:srgbClr val="333333"/>
              </a:gs>
              <a:gs pos="100000">
                <a:srgbClr val="171717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04920"/>
            <a:ext cx="1143000" cy="121896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18960"/>
              <a:gd name="textAreaBottom" fmla="*/ 1163160 h 1218960"/>
            </a:gdLst>
            <a:ahLst/>
            <a:rect l="textAreaLeft" t="textAreaTop" r="textAreaRight" b="textAreaBottom"/>
            <a:pathLst>
              <a:path w="21600" h="23035">
                <a:moveTo>
                  <a:pt x="3600" y="0"/>
                </a:moveTo>
                <a:arcTo wR="3600" hR="3600" stAng="16200000" swAng="-5400000"/>
                <a:lnTo>
                  <a:pt x="0" y="19435"/>
                </a:lnTo>
                <a:arcTo wR="3600" hR="3600" stAng="10800000" swAng="-5400000"/>
                <a:lnTo>
                  <a:pt x="18000" y="230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71717"/>
              </a:gs>
              <a:gs pos="50000">
                <a:srgbClr val="333333"/>
              </a:gs>
              <a:gs pos="100000">
                <a:srgbClr val="171717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304920"/>
            <a:ext cx="1143000" cy="121896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18960"/>
              <a:gd name="textAreaBottom" fmla="*/ 1163160 h 1218960"/>
            </a:gdLst>
            <a:ahLst/>
            <a:rect l="textAreaLeft" t="textAreaTop" r="textAreaRight" b="textAreaBottom"/>
            <a:pathLst>
              <a:path w="21600" h="23035">
                <a:moveTo>
                  <a:pt x="3600" y="0"/>
                </a:moveTo>
                <a:arcTo wR="3600" hR="3600" stAng="16200000" swAng="-5400000"/>
                <a:lnTo>
                  <a:pt x="0" y="19435"/>
                </a:lnTo>
                <a:arcTo wR="3600" hR="3600" stAng="10800000" swAng="-5400000"/>
                <a:lnTo>
                  <a:pt x="18000" y="230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71717"/>
              </a:gs>
              <a:gs pos="50000">
                <a:srgbClr val="333333"/>
              </a:gs>
              <a:gs pos="100000">
                <a:srgbClr val="171717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59280" y="333360"/>
            <a:ext cx="1071720" cy="1150920"/>
          </a:xfrm>
          <a:custGeom>
            <a:avLst/>
            <a:gdLst>
              <a:gd name="textAreaLeft" fmla="*/ 52200 w 1071720"/>
              <a:gd name="textAreaRight" fmla="*/ 1019520 w 1071720"/>
              <a:gd name="textAreaTop" fmla="*/ 52200 h 1150920"/>
              <a:gd name="textAreaBottom" fmla="*/ 1098720 h 1150920"/>
            </a:gdLst>
            <a:ahLst/>
            <a:rect l="textAreaLeft" t="textAreaTop" r="textAreaRight" b="textAreaBottom"/>
            <a:pathLst>
              <a:path w="21600" h="23196">
                <a:moveTo>
                  <a:pt x="3600" y="0"/>
                </a:moveTo>
                <a:arcTo wR="3600" hR="3600" stAng="16200000" swAng="-5400000"/>
                <a:lnTo>
                  <a:pt x="0" y="19596"/>
                </a:lnTo>
                <a:arcTo wR="3600" hR="3600" stAng="10800000" swAng="-5400000"/>
                <a:lnTo>
                  <a:pt x="18000" y="23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71717"/>
              </a:gs>
              <a:gs pos="50000">
                <a:srgbClr val="333333"/>
              </a:gs>
              <a:gs pos="100000">
                <a:srgbClr val="171717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 Narrow"/>
              </a:rPr>
              <a:t>Train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 Narrow"/>
              </a:rPr>
              <a:t>Princip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 Narrow"/>
              </a:rPr>
              <a:t>And Metho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304920"/>
            <a:ext cx="1143000" cy="121896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18960"/>
              <a:gd name="textAreaBottom" fmla="*/ 1163160 h 1218960"/>
            </a:gdLst>
            <a:ahLst/>
            <a:rect l="textAreaLeft" t="textAreaTop" r="textAreaRight" b="textAreaBottom"/>
            <a:pathLst>
              <a:path w="21600" h="23035">
                <a:moveTo>
                  <a:pt x="3600" y="0"/>
                </a:moveTo>
                <a:arcTo wR="3600" hR="3600" stAng="16200000" swAng="-5400000"/>
                <a:lnTo>
                  <a:pt x="0" y="19435"/>
                </a:lnTo>
                <a:arcTo wR="3600" hR="3600" stAng="10800000" swAng="-5400000"/>
                <a:lnTo>
                  <a:pt x="18000" y="230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71717"/>
              </a:gs>
              <a:gs pos="50000">
                <a:srgbClr val="333333"/>
              </a:gs>
              <a:gs pos="100000">
                <a:srgbClr val="171717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304920"/>
            <a:ext cx="1143000" cy="121896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18960"/>
              <a:gd name="textAreaBottom" fmla="*/ 1163160 h 1218960"/>
            </a:gdLst>
            <a:ahLst/>
            <a:rect l="textAreaLeft" t="textAreaTop" r="textAreaRight" b="textAreaBottom"/>
            <a:pathLst>
              <a:path w="21600" h="23035">
                <a:moveTo>
                  <a:pt x="3600" y="0"/>
                </a:moveTo>
                <a:arcTo wR="3600" hR="3600" stAng="16200000" swAng="-5400000"/>
                <a:lnTo>
                  <a:pt x="0" y="19435"/>
                </a:lnTo>
                <a:arcTo wR="3600" hR="3600" stAng="10800000" swAng="-5400000"/>
                <a:lnTo>
                  <a:pt x="18000" y="230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71717"/>
              </a:gs>
              <a:gs pos="50000">
                <a:srgbClr val="333333"/>
              </a:gs>
              <a:gs pos="100000">
                <a:srgbClr val="171717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5146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8" action="ppaction://hlinksldjump"/>
              </a:rPr>
              <a:t>2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25146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9" action="ppaction://hlinksldjump"/>
              </a:rPr>
              <a:t>2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25146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10" action="ppaction://hlinksldjump"/>
              </a:rPr>
              <a:t>2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25146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11" action="ppaction://hlinksldjump"/>
              </a:rPr>
              <a:t>2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25146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12" action="ppaction://hlinksldjump"/>
              </a:rPr>
              <a:t>2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25146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13" action="ppaction://hlinksldjump"/>
              </a:rPr>
              <a:t>2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25146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14" action="ppaction://hlinksldjump"/>
              </a:rPr>
              <a:t>2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505320"/>
            <a:ext cx="114300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15" action="ppaction://hlinksldjump"/>
              </a:rPr>
              <a:t>3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3505320"/>
            <a:ext cx="114300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16" action="ppaction://hlinksldjump"/>
              </a:rPr>
              <a:t>3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3505320"/>
            <a:ext cx="114300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17" action="ppaction://hlinksldjump"/>
              </a:rPr>
              <a:t>3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505320"/>
            <a:ext cx="114300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18" action="ppaction://hlinksldjump"/>
              </a:rPr>
              <a:t>3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3505320"/>
            <a:ext cx="114300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19" action="ppaction://hlinksldjump"/>
              </a:rPr>
              <a:t>3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3505320"/>
            <a:ext cx="114300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20" action="ppaction://hlinksldjump"/>
              </a:rPr>
              <a:t>3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86600" y="3505320"/>
            <a:ext cx="114300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21" action="ppaction://hlinksldjump"/>
              </a:rPr>
              <a:t>3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44956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22" action="ppaction://hlinksldjump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44956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23" action="ppaction://hlinksldjump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44956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24" action="ppaction://hlinksldjump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44956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25" action="ppaction://hlinksldjump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44956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26" action="ppaction://hlinksldjump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44956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27" action="ppaction://hlinksldjump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86600" y="44956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28" action="ppaction://hlinksldjump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54864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1d00"/>
              </a:gs>
              <a:gs pos="50000">
                <a:srgbClr val="804000"/>
              </a:gs>
              <a:gs pos="100000">
                <a:srgbClr val="3b1d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29" action="ppaction://hlinksldjump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4864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1d00"/>
              </a:gs>
              <a:gs pos="50000">
                <a:srgbClr val="804000"/>
              </a:gs>
              <a:gs pos="100000">
                <a:srgbClr val="3b1d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30" action="ppaction://hlinksldjump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54864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1d00"/>
              </a:gs>
              <a:gs pos="50000">
                <a:srgbClr val="804000"/>
              </a:gs>
              <a:gs pos="100000">
                <a:srgbClr val="3b1d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31" action="ppaction://hlinksldjump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54864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1d00"/>
              </a:gs>
              <a:gs pos="50000">
                <a:srgbClr val="804000"/>
              </a:gs>
              <a:gs pos="100000">
                <a:srgbClr val="3b1d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32" action="ppaction://hlinksldjump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54864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1d00"/>
              </a:gs>
              <a:gs pos="50000">
                <a:srgbClr val="804000"/>
              </a:gs>
              <a:gs pos="100000">
                <a:srgbClr val="3b1d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33" action="ppaction://hlinksldjump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54864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1d00"/>
              </a:gs>
              <a:gs pos="50000">
                <a:srgbClr val="804000"/>
              </a:gs>
              <a:gs pos="100000">
                <a:srgbClr val="3b1d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34" action="ppaction://hlinksldjump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54864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1d00"/>
              </a:gs>
              <a:gs pos="50000">
                <a:srgbClr val="804000"/>
              </a:gs>
              <a:gs pos="100000">
                <a:srgbClr val="3b1d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35" action="ppaction://hlinksldjump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8088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Monitoring and promotion of physical activ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3808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Energy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3808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Fitness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3808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Fatigue and Recov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38088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hronic Adaptations to train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38088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Strategies to enhance perform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 rot="16200000">
            <a:off x="5486400" y="3124080"/>
            <a:ext cx="6400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003366"/>
                </a:solidFill>
                <a:latin typeface="FiveBits"/>
              </a:rPr>
              <a:t>Jeopardy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solidFill>
                <a:srgbClr val="003366"/>
              </a:solidFill>
              <a:latin typeface="FiveBits"/>
              <a:ea typeface="FiveBit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50 - 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For overweight and obese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individuals, to prevent weight regain once weight is lost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30-60 minutes of physical activity is recommended on at least 5 days per week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60-90 minutes of physical activity is recommended on at least 5 days per week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60-90 minutes of physical activity is recommended per day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30-60 minutes of physical activity is recommended per day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18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5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C 60-90 minutes of physical activity is recommended per day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10 –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The aerobic energy system: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Peaks at approx 70 seconds when athletes work maximally from the outset of exercis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Preferentially uses fats as a fuel sourc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s the predominant energy supplier in a 400 m sprint in athletic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Can only operate if exercise intensity remains between 70- 85% maximum heart rat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19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10 –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A  Peaks at approx 70 seconds when athletes work maximally from the outset of exercis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20 –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When considering the energy systems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The aerobic system is the</a:t>
            </a:r>
            <a:r>
              <a:rPr b="0" lang="en-GB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lowest to contribute to ATP resynthesis, but 40-50 times more powerful than the two combined anaerobic system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PC is adversely affected by the low pH caused when the LA system takes over energy productio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The LA system produces 5 times as much energy as the PC system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None of the above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010280" y="115920"/>
            <a:ext cx="2133360" cy="1512720"/>
            <a:chOff x="7010280" y="115920"/>
            <a:chExt cx="2133360" cy="1512720"/>
          </a:xfrm>
        </p:grpSpPr>
        <p:sp>
          <p:nvSpPr>
            <p:cNvPr id="202" name=""/>
            <p:cNvSpPr/>
            <p:nvPr/>
          </p:nvSpPr>
          <p:spPr>
            <a:xfrm>
              <a:off x="7010280" y="115920"/>
              <a:ext cx="2133360" cy="1512720"/>
            </a:xfrm>
            <a:prstGeom prst="hexagon">
              <a:avLst>
                <a:gd name="adj" fmla="val 35257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03960" y="342720"/>
              <a:ext cx="184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20 –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A  The aerobic system is the slowest to contribute to ATP resynthesis, but 40-50 times more powerful than the two combined anaerobic systems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0 –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erobic glycolysis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:</a:t>
            </a:r>
            <a:br>
              <a:rPr sz="4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Produces energy faster than anaerobic glycolysi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Can occur in the absence of oxyge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Takes over from anaerobic glycolysis when athletes hit the wall in events such as the maratho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Breaks down pyruvic acid to carbon dioxide and more energy via the Kreb’s Cycle</a:t>
            </a: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21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0 –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D Breaks down pyruvic acid to carbon dioxide and more energy via the Kreb’s Cycle</a:t>
            </a:r>
            <a:r>
              <a:rPr b="0" lang="en-AU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The oxygen deficit occurs when:</a:t>
            </a:r>
            <a:br>
              <a:rPr sz="40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Performers have had time to reach a “steady state”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  ATP is broken down anaerobically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The amount of oxygen demanded is less than that able to be supplied by the cardiovascular &amp; respiratory system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Performers train at high altitude and the air is “thin”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22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B  ATP is broken down anaerobically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10 –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When monitoring physical activity levels among populations, pedometers are: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Very accurate and very practical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Very practical but not highly accurat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Very accurate but not very practical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Moderately practical and highly accurat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143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2560" y="609480"/>
              <a:ext cx="14479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50 –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EPOC stands for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Energy prior-to oxygen consumptio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Excess potential oxygen consumptio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Elevated post-exercise oxygen constant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Excess post-exercise oxygen consumption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23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50 –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D Excess post-exercise oxygen consumption</a:t>
            </a: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1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disruption to glycolytic enzymes will lead to fatigue by: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ing the reliance on fats as a fuel sourc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ing the amount of LA that is produced due to anaerobic glycolysi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Limiting the breakdown on glycogen to glucose and then resynthesis of ATP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ll of the abov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24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10 -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C Limiting the breakdown on glycogen to glucose and then resynthesis of ATP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2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The most likely cause of fatigue for a 100m sprinter (athletics) is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PC depletio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Lowered muscle pH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ccumulation of iron(s) – Fe, Ph, Al, etc.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Lactic Acid accumulation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25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2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A  PC depletion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ehydration leads to fatigue by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Resulting in vasodilation and blood flow away from working muscl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Causing increased heart rat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ing systolic blood pressur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ll of the abov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26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D All of the above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Following a 10 second interval sprint (max intensity) how long would it take to replenish fuel stores used in the work period?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10 seconds (1: 1 work : rest ratio)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180 second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240 second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300 seconds</a:t>
            </a:r>
            <a:r>
              <a:rPr b="0" lang="en-AU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27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B 180 second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10 –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B Very practical but not highly accurate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5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n active recovery is how many times faster than a passive recovery at removing LA and restoring muscle pH?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Twic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Three tim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Five tim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Ten Times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28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5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A Twice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1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The most important fitness component for a 1,500m swimmer performing a tumble turn is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Reaction Tim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gility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 Balanc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erobic Power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29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1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B  Agility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2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The most specific test to assess the agility of a tennis player would be the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llinois Agility Ru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emo Agility Test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Harvard Twist Touch Test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Margarita Agility Run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30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2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B  Semo Agility Tes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Muscular strength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s the same as muscular power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s applied slower than muscular power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s applied faster than muscular power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 Is evident when athletes perform 10RM of any chosen exercis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31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B  Is applied slower than muscular power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The same post tests should be conducted as pre tests because this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llows for relevant comparisons to be mad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Ensures performers don’t get mixed up with a new set of test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Doesn’t require variety as it doesn’t involve training principl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None of the abov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32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A  Allows for relevant comparisons to be made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2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When considering the dimensions of physical activity </a:t>
            </a:r>
            <a:r>
              <a:rPr b="1" lang="en-GB" sz="2400" spc="-1" strike="noStrike" u="sng">
                <a:solidFill>
                  <a:srgbClr val="ccffff"/>
                </a:solidFill>
                <a:uFillTx/>
                <a:latin typeface="Times New Roman"/>
              </a:rPr>
              <a:t>context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 refers to: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The setting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Who the person under consideration is with at the tim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Where the physical activity is taking plac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ll of the abov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15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62560" y="609480"/>
              <a:ext cx="14479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33560" y="22860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5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The following data would give the best indication of energy system interplay during an analysed game of netball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kill frequency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Movement Pattern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Heart Rate / Trac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W:R ratio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33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5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C  Heart Rate / Trace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1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training year can be broken down into smaller sections such as “pre-season”, “competition” and “off-season”. These are examples of”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Periodisatio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Mesocycl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Microcycl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Tri-cycles</a:t>
            </a:r>
            <a:r>
              <a:rPr b="0" lang="en-AU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34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1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A Periodisation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2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The best example of long interval training listed below is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20 x 2 x 10 m runs with a w:r ratio of 1:1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2 x 20 x 100 m runs with a w:r ratio of 1:2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2 x 2 x 1,000 m runs with a w:r ratio of 1:1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2 x 20 x 10,000m runs with a w:r ratio of 1:10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35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2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C 2 x 2 x 1,000 m runs with a w:r ratio of 1:1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“Fartlek” training 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Can be overloaded by completing the same distance in a slower tim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s also known as “playing with speed”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Requires rest periods to restore PC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Combines continuous activity with short bursts of intense work at regular intervals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36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D Combines continuous activity with short bursts of intense work at regular intervals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In the following resistance training ~ 4 x 3RM x 80kg, which component would primarily be developed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Muscular Enduranc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trength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peed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Power</a:t>
            </a:r>
            <a:r>
              <a:rPr b="0" lang="en-AU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37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D  Power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20 –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D All of the above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5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The “SAID” principle refers to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pecially Adapted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ternal Driver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pecific Adaptive Imposition Demand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pecific Adaptation Imposed Demand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Coaches saying “I told you so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38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5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C Specific Adaptation Imposed Demands</a:t>
            </a:r>
            <a:r>
              <a:rPr b="0" lang="en-AU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1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The following is most likely to result from participation in an aerobic training program lasting 12+ mths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capillarisatio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plasma volum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cardiac output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ll of the above</a:t>
            </a:r>
            <a:r>
              <a:rPr b="0" lang="en-AU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39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1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D  All of the abov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2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Short interval training will result in the following chronic changes to fast twitch muscle fibres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“whiteness”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antioxidative enzyme stor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contraction speed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triglyceride stores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40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2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C  Increased contraction speed</a:t>
            </a:r>
            <a:r>
              <a:rPr b="0" lang="en-AU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>
            <a:hlinkClick r:id="" action="ppaction://hlinkshowjump?jump=firstslide"/>
          </p:cNvPr>
          <p:cNvSpPr/>
          <p:nvPr/>
        </p:nvSpPr>
        <p:spPr>
          <a:xfrm rot="16200000">
            <a:off x="8073000" y="5680800"/>
            <a:ext cx="79992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erobic training results in an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a-VO2 diff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Decreased a-VO2 diff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VO2 diff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No change to a-VO2 diff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41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A  Increased a-VO2 diff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s a result of extensive aerobic training, marathon runners would have the following adaptations at the muscular level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Decreased resting heart rat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glycogen synthas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Decreased Kreb’s cycle pathway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None of the above</a:t>
            </a:r>
            <a:r>
              <a:rPr b="0" lang="en-AU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42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B Increased glycogen synthase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ccording to the National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Physical Activity Guidelin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dults should engage in more physical activity than childre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Children should engage in twice as much physical activity as adult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dults should engage in at least 2 hours of electronic media for entertainment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Children should engage in at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least 2 hours of electronic media for entertainment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16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5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Plyometric training will result in the following adaptations to fast twitch muscle fibres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“whiteness”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antioxidative enzyme stor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PC stor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triglyceride stores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43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5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C  Increased PC stores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1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Risk management includes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ppointing a manager who is prepared to take risk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Conducting regular evacuation drill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llowing players to take “calculated risks”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Reducing the likelihood of “things going wrong”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44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1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D Reducing the likelihood of “things going wrong”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2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Psychological symptom(s) of overtraining includes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Disturbed sleep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Mood swing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Decreased “drive”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ll of the abov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45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2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D All of the above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Ethical performers try to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trive to achieve personal health as well as personal best performanc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eek equality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void doping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ll of the above</a:t>
            </a:r>
            <a:r>
              <a:rPr b="0" lang="en-AU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46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D All of the abov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olostrum provides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performance enhancing properties by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ing the amount of anaerobic power that can be generated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mproving the body’s immune system and protein synthesis mechanism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mproving the rate of glycolysi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Providing a quicker mechanism for catabolic reactions to occur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47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B Improving the body’s immune system and protein synthesis mechanisms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B Children should engage in twice as much physical activity as adults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5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Minerals are important in assisting performance PB’s by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ssisting in water loss to help with thermoregulatio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Maintaining an acid-base balance to ensure normal cellular functio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dding to the amount of ATP that can be produced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Ensuring the Essential Electrolytic Balance (EEB) is maintained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48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5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B Maintaining an acid-base balance to ensure normal cellular function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ccelerometers are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Objectiv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Expensive to use with large population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Non-invasiv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ll of the abov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17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Accelerometers are:</a:t>
            </a: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D All of the above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06:09:55Z</dcterms:created>
  <dc:creator>Andrew Chua</dc:creator>
  <dc:description/>
  <dc:language>en-US</dc:language>
  <cp:lastModifiedBy>Setup</cp:lastModifiedBy>
  <dcterms:modified xsi:type="dcterms:W3CDTF">2006-10-04T13:33:01Z</dcterms:modified>
  <cp:revision>27</cp:revision>
  <dc:subject/>
  <dc:title>PowerPoint Presentation</dc:title>
</cp:coreProperties>
</file>